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FBB-2507-488C-815B-713BA766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048-91B4-465E-8F8E-C723EE9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5BC-A58F-47B3-9B2D-850192E1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D8B-73B3-4A80-B3CC-65829C92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3CA5-3903-4594-BB3D-CB831F88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3D5-3C88-4664-93BC-2CCFD511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E2F8-C62C-41B5-AC19-0513B83D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8045-7110-43CB-8AAA-5B46B9E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2753-730E-4B29-994B-3074CB17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CC5C-1666-40F6-9C92-78A96BBF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6907-9425-4FB8-86E1-0737887D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D70-086F-4C27-BD95-1DA21247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2F6D-9C0D-4EB2-BEBE-FDA04DAB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453C-58B6-434F-A54D-74BB264F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6B8E-9FFD-4672-81F4-FB3A89B1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1563-D736-459A-9A43-CE7C68C6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6E82-0E3F-459F-AF89-3F08643D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F81-BA9E-4476-8AA6-DC411D7D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569-282A-49DB-836D-3AE6002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080-468F-4E74-AF9D-52A1B892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C01-8C0E-4F17-BCDE-65A9BE57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A15-1ABD-46C8-9D2A-7E6D2B28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153-20C1-4D55-93FF-15200439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2EC-7EB8-4920-9100-A202D11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33F-8107-416B-8DD5-2E7A672083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88CD-13D3-4F2A-A716-CB89C43AB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kompass2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ompassparts"/>
          <p:cNvPicPr/>
          <p:nvPr/>
        </p:nvPicPr>
        <p:blipFill>
          <a:blip r:embed="rId1"/>
          <a:stretch/>
        </p:blipFill>
        <p:spPr>
          <a:xfrm>
            <a:off x="-6172200" y="5943600"/>
            <a:ext cx="5943600" cy="487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5486400" cy="5187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3352680"/>
            <a:ext cx="2971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Parts of a compas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compasshand2"/>
          <p:cNvPicPr/>
          <p:nvPr/>
        </p:nvPicPr>
        <p:blipFill>
          <a:blip r:embed="rId1"/>
          <a:stretch/>
        </p:blipFill>
        <p:spPr>
          <a:xfrm>
            <a:off x="3581280" y="16002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ompasshand"/>
          <p:cNvPicPr/>
          <p:nvPr/>
        </p:nvPicPr>
        <p:blipFill>
          <a:blip r:embed="rId2"/>
          <a:stretch/>
        </p:blipFill>
        <p:spPr>
          <a:xfrm>
            <a:off x="4800600" y="3886200"/>
            <a:ext cx="3657600" cy="249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Text Box 4"/>
          <p:cNvSpPr/>
          <p:nvPr/>
        </p:nvSpPr>
        <p:spPr>
          <a:xfrm>
            <a:off x="762120" y="2133720"/>
            <a:ext cx="2666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a3c145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old the compass parallel to the ground in your open h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940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e red point of the arrow is pointing north.  Turn your body until the red arrow is pointing to N on the compass.  You are now facing north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3" name="Picture 9" descr="compass4"/>
          <p:cNvPicPr/>
          <p:nvPr/>
        </p:nvPicPr>
        <p:blipFill>
          <a:blip r:embed="rId1"/>
          <a:srcRect l="0" t="0" r="2398" b="2398"/>
          <a:stretch/>
        </p:blipFill>
        <p:spPr>
          <a:xfrm>
            <a:off x="5257800" y="2057400"/>
            <a:ext cx="29750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1200000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a10350"/>
          <p:cNvPicPr/>
          <p:nvPr/>
        </p:nvPicPr>
        <p:blipFill>
          <a:blip r:embed="rId1"/>
          <a:stretch/>
        </p:blipFill>
        <p:spPr>
          <a:xfrm>
            <a:off x="4419720" y="1981080"/>
            <a:ext cx="409572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 your GLOBE compass, turn the entire compass until the red needle aligns with the red arrow. (Put the “red” in the “shed”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Line 10"/>
          <p:cNvSpPr/>
          <p:nvPr/>
        </p:nvSpPr>
        <p:spPr>
          <a:xfrm flipH="1" flipV="1">
            <a:off x="6629040" y="3200040"/>
            <a:ext cx="609480" cy="2514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400800" y="5715000"/>
            <a:ext cx="2438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“She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604120" cy="354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10350"/>
          <p:cNvPicPr/>
          <p:nvPr/>
        </p:nvPicPr>
        <p:blipFill>
          <a:blip r:embed="rId2"/>
          <a:srcRect l="10907" t="0" r="3639" b="0"/>
          <a:stretch/>
        </p:blipFill>
        <p:spPr>
          <a:xfrm>
            <a:off x="0" y="3352680"/>
            <a:ext cx="3581280" cy="2970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599840"/>
            <a:ext cx="3432240" cy="685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 set a bearing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828800" y="59436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Turn this until the “red is in the shed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3200400" y="533376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715000" y="3200400"/>
            <a:ext cx="1295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5715000" y="449568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2895480" y="4191120"/>
            <a:ext cx="1752840" cy="3045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2"/>
          <p:cNvSpPr/>
          <p:nvPr/>
        </p:nvSpPr>
        <p:spPr>
          <a:xfrm flipH="1" flipV="1">
            <a:off x="1980720" y="51811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2438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a10350"/>
          <p:cNvPicPr/>
          <p:nvPr/>
        </p:nvPicPr>
        <p:blipFill>
          <a:blip r:embed="rId1"/>
          <a:srcRect l="8456" t="0" r="0" b="0"/>
          <a:stretch/>
        </p:blipFill>
        <p:spPr>
          <a:xfrm>
            <a:off x="4191120" y="1905120"/>
            <a:ext cx="4952880" cy="383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ad the bearing (aspect) from the dial, at the base of the arrow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77120" y="5562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ahoma"/>
              </a:rPr>
              <a:t>Read he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9"/>
          <p:cNvSpPr/>
          <p:nvPr/>
        </p:nvSpPr>
        <p:spPr>
          <a:xfrm flipH="1" flipV="1">
            <a:off x="7162560" y="3352320"/>
            <a:ext cx="75960" cy="2133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6520" cy="1523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actice facing each direction.  First face the cardinal directions:  north, south, east, and west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17" name="Group 18"/>
          <p:cNvGrpSpPr/>
          <p:nvPr/>
        </p:nvGrpSpPr>
        <p:grpSpPr>
          <a:xfrm>
            <a:off x="2666880" y="2743200"/>
            <a:ext cx="3733920" cy="3568680"/>
            <a:chOff x="2666880" y="2743200"/>
            <a:chExt cx="3733920" cy="3568680"/>
          </a:xfrm>
        </p:grpSpPr>
        <p:sp>
          <p:nvSpPr>
            <p:cNvPr id="118" name="Oval 11"/>
            <p:cNvSpPr/>
            <p:nvPr/>
          </p:nvSpPr>
          <p:spPr>
            <a:xfrm>
              <a:off x="3276720" y="3276720"/>
              <a:ext cx="2286000" cy="228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4419720" y="32004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>
              <a:off x="3200400" y="44197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41911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4191120" y="5791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571500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266688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A Comp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5652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en face the midpoints:  northeast, northwest, southeast, and southwest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2666880" y="2743200"/>
            <a:ext cx="3733920" cy="3568680"/>
            <a:chOff x="2666880" y="2743200"/>
            <a:chExt cx="3733920" cy="3568680"/>
          </a:xfrm>
        </p:grpSpPr>
        <p:sp>
          <p:nvSpPr>
            <p:cNvPr id="128" name="Oval 5"/>
            <p:cNvSpPr/>
            <p:nvPr/>
          </p:nvSpPr>
          <p:spPr>
            <a:xfrm>
              <a:off x="3276720" y="3276720"/>
              <a:ext cx="2286000" cy="228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4419720" y="32004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3200400" y="44197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41911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4191120" y="5791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571500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266688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Text Box 12"/>
          <p:cNvSpPr/>
          <p:nvPr/>
        </p:nvSpPr>
        <p:spPr>
          <a:xfrm>
            <a:off x="5486400" y="3200400"/>
            <a:ext cx="83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414400" y="5257800"/>
            <a:ext cx="573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2724120" y="3200400"/>
            <a:ext cx="781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665440" y="5181480"/>
            <a:ext cx="70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S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9:12:55Z</dcterms:created>
  <dc:creator>Jerry Cobbs</dc:creator>
  <dc:description/>
  <dc:language>en-US</dc:language>
  <cp:lastModifiedBy>lfowler</cp:lastModifiedBy>
  <dcterms:modified xsi:type="dcterms:W3CDTF">2011-07-15T19:19:09Z</dcterms:modified>
  <cp:revision>5</cp:revision>
  <dc:subject/>
  <dc:title>Using a Comp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